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696-3DEC-49C3-91AB-C56F812D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B29-6DD0-411F-84DE-FD1E4B64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909-8B58-4D4E-AB0C-D831AA77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D73-0731-433B-A6D3-2ED9DECE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F83-D07D-44CE-9BDD-081E3A95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605-0466-4578-96B5-E5B7B7F8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FCE-9002-4306-A5BE-3FD5FFD8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9BD-1381-420E-B617-515620AF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1F8-4DB6-4884-B087-A14A96EC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4D1-5DAF-49FB-BFFB-D2808BFC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506-2DFC-45D3-8675-2E063CE8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FED-AB30-4231-BDBF-E416FAC5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AD14-3354-4255-8DE3-272B678B6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90600" y="33480"/>
            <a:ext cx="6953400" cy="6381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16200000">
            <a:off x="-534960" y="996120"/>
            <a:ext cx="185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I. Jahrg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61920" y="73080"/>
            <a:ext cx="3895920" cy="29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Across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3. Urkunde, die eine besonders gesicherte Forderung verbrief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5. aktive Rechnungsabgrenz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6. Gegenüberstellung Aktiva und Passiv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10. Ausdruck der Wertminderung eines abnutzbaren Anlagegut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11. Anschaffungskost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12. Anschaffungswert minus bish. Af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14. ...Ausweisung der Aufwände/Erträge = Aufgabe der Rechnungsabgrenz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Down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1. Vorsorge für ungewisse Verbindlichkeit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2. Position im Passiva der Bilanz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4. ...rückstellung - Art der Rückstell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7. eine ungewisse Forderung ist 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8. Art der Abschreib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9. ...vermögen, steht im Aktiv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13. Verfahren zur Ermittlung des Verbrauches des Vorrat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15. Gegenüber-                stellung Aufwände und Erträ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600" y="570708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ösungswor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80" y="5985000"/>
            <a:ext cx="401760" cy="401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2120" y="5985000"/>
            <a:ext cx="401760" cy="401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39960" y="5985000"/>
            <a:ext cx="401400" cy="401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87440" y="5985000"/>
            <a:ext cx="401760" cy="401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5985000"/>
            <a:ext cx="401400" cy="401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2760" y="5985000"/>
            <a:ext cx="401760" cy="401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30600" y="5985000"/>
            <a:ext cx="401400" cy="401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8080" y="5985000"/>
            <a:ext cx="401760" cy="401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25920" y="5985000"/>
            <a:ext cx="401400" cy="401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" y="5543640"/>
            <a:ext cx="4073400" cy="87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360" y="35290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89600" y="661356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Umlaute werden verwendet! ä,ü.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15120" y="3062160"/>
            <a:ext cx="319320" cy="3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06920" y="1913040"/>
            <a:ext cx="319320" cy="318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64320" y="5622840"/>
            <a:ext cx="318960" cy="3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94600" y="5648400"/>
            <a:ext cx="319320" cy="318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99000" y="4500720"/>
            <a:ext cx="319320" cy="318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32520" y="1647720"/>
            <a:ext cx="319320" cy="3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3400" y="774720"/>
            <a:ext cx="318960" cy="318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03320" y="969840"/>
            <a:ext cx="6150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lanz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genüberstellung Aktiva und Pass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mlau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vermögen, steht im Ak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bindlichkeite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ition im Passiva der Bila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fahren zur Ermittlung d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brauches des Vor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chreibun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sdruck der Wertminderung ein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nutzbaren Anlageg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schaffungswer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schaffungsko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chwer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schaffungswert minus bish. A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t der Abschrei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ktive Rechnungsabgren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iodenrichtig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Ausweisung der Aufwände/Erträge =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fgabe der Rechnungsabgren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ückstellu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rsorge für ungewiss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bindlichk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ranti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rückstellung - Art der Rückstell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bio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ne ungewisse Forderung ist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UV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genüberstellung Aufwände un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trä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chse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rkunde, die eine besonder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sicherte Forderung verbri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3800" y="457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54:12Z</dcterms:created>
  <dc:creator>Mag. Helmut Bauer</dc:creator>
  <dc:description/>
  <dc:language>en-US</dc:language>
  <cp:lastModifiedBy>Mag. Helmut Bauer</cp:lastModifiedBy>
  <dcterms:modified xsi:type="dcterms:W3CDTF">2003-09-11T13:58:43Z</dcterms:modified>
  <cp:revision>2</cp:revision>
  <dc:subject/>
  <dc:title>Folie 1</dc:title>
</cp:coreProperties>
</file>